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FD37-44CA-4104-8D86-59EB57F4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D7AB-648A-4CA4-B893-0C90A415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A111-DC27-4D20-A997-31C75630D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B5CE-2929-4EDF-BAE6-6614BF40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5456-3943-467E-8672-241F5040F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CC39-20F9-4991-9847-96F38401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43B5-6780-46D2-B529-E107FA11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24A6-12A8-44A0-8759-7171FAF3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F3D1-8139-4540-9BD8-B1FD888C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15E1-1B9A-4A35-8D82-7BFD56FB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AEDA-603C-4B02-842D-7C5D8E2F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4597-9A31-4388-94BD-8BFD600A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8DB8-B07E-4AFA-9E7D-D93C4116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9009-7AC8-465B-A8AD-9E4B4879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8093-BB9C-4D73-B609-CE616EE5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4883-0D3B-43C1-A826-4101373FD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892D-918C-4293-B492-7ABADA8B3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5BF8-3CC8-456C-958D-F6A79703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BD72-05C9-452A-A49E-0250B838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4AE3-F430-49F2-BD43-29D71309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7DC4-D5AC-4B89-93E6-9C9961E8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DC88-0E6A-475C-A62C-59BEA2E7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A37F-62D8-463E-A20F-D4DA4D77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0F97-204C-4258-8622-F90DBE8B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ED52-488C-474C-A83F-8D4A858BCC7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3DB7-9848-4C90-A02E-00E1ECC0EF0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58,3,Motivo que provoca la investigaci&#243;n" TargetMode="External"/><Relationship Id="rId2" Type="http://schemas.openxmlformats.org/officeDocument/2006/relationships/hyperlink" Target="258,3,Diapositiva 3" TargetMode="External"/><Relationship Id="rId3" Type="http://schemas.openxmlformats.org/officeDocument/2006/relationships/hyperlink" Target="259,4,Diapositiva 4" TargetMode="External"/><Relationship Id="rId4" Type="http://schemas.openxmlformats.org/officeDocument/2006/relationships/hyperlink" Target="260,5,Resultado final.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257,2,           &#205;tems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257,2,           &#205;tems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257,2,           &#205;tems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dipo, Rey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omo referente cinematográfic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836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66"/>
                </a:solidFill>
                <a:latin typeface="Arial"/>
              </a:rPr>
              <a:t>           </a:t>
            </a:r>
            <a:r>
              <a:rPr b="1" lang="en-US" sz="6600" spc="-1" strike="noStrike">
                <a:solidFill>
                  <a:srgbClr val="006666"/>
                </a:solidFill>
                <a:latin typeface="Arial"/>
              </a:rPr>
              <a:t>Ítems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Motivo que provoca la investigación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._x000b_</a:t>
            </a:r>
            <a:br>
              <a:rPr sz="2800"/>
            </a:b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Indicios de estar implicado en la investigación._x000b_</a:t>
            </a:r>
            <a:br>
              <a:rPr sz="2800"/>
            </a:b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Resultado final en la investigació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Motivo que provoca la investigació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 producirá un viaje hacia el conocimiento de la verdad para poder averiguar una acción el pasado que repercutirá tanto en el presente como lo hará en un futur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730840" y="330984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Indicios de estar implicad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 el camino para alcanzar la verdad, se producirá un acontecimiento que provocará que el promotor de la investigación quede implicado en la acc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760640" y="2361960"/>
            <a:ext cx="3770280" cy="3724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364000" y="2708280"/>
            <a:ext cx="2617920" cy="2938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Resultado final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implicación personal del investigador ha determinado su propio destino; por mucho que un hombre busque la verdad, como Edipo, no logra la felicidad, sino paradójicamente su propia destrucció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760640" y="2361960"/>
            <a:ext cx="3770280" cy="3724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364000" y="2565360"/>
            <a:ext cx="2433960" cy="311616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referente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trama de Edipo, Rey de Sófocles ha servido en el mundo audiovisual como referente de películas como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*Poderosa Afrodita , de Woody Alle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38080" y="4300200"/>
            <a:ext cx="76932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516720" y="3645000"/>
            <a:ext cx="2300400" cy="26748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emento, de Christopher Nolan.</a:t>
            </a:r>
            <a:br>
              <a:rPr sz="2400"/>
            </a:b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0020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a caja de música , de Costa-gavr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77080" y="1989000"/>
            <a:ext cx="1616040" cy="2087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77080" y="4076640"/>
            <a:ext cx="1592280" cy="22338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a chica terrible, de Michael Verhoeven.</a:t>
            </a:r>
            <a:br>
              <a:rPr sz="2400"/>
            </a:b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.  Desafío total , de Paul Verhoeven.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ntre otras del mismo géner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020000" y="2276640"/>
            <a:ext cx="1439640" cy="1944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948360" y="4292640"/>
            <a:ext cx="1501920" cy="2179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27640" y="1197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Gracias por su atención.</a:t>
            </a:r>
            <a:br>
              <a:rPr sz="4000"/>
            </a:b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rina Egea 2ºBachillerato- 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4:34:51Z</dcterms:created>
  <dc:creator>alberto</dc:creator>
  <dc:description/>
  <dc:language>en-US</dc:language>
  <cp:lastModifiedBy>alberto</cp:lastModifiedBy>
  <dcterms:modified xsi:type="dcterms:W3CDTF">2010-04-18T15:36:21Z</dcterms:modified>
  <cp:revision>2</cp:revision>
  <dc:subject/>
  <dc:title>Edipo, Rey</dc:title>
</cp:coreProperties>
</file>